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C69-1715-4556-A61F-534BA4CE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6F0-03D9-472B-951C-245A72DD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C0B-D152-435F-A668-35B123A7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EF4-2461-420F-9857-71FD6460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308-14C2-4C1C-9593-F30397D0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0FA-279E-4FA3-91E2-E9CC71A6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4CC-B511-4637-A771-FC8EBCB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F04-CDBE-45CD-B4D5-F62C97A1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73C-8068-4AEF-A8B4-F923EAD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ADB-90F5-4828-8BB1-4062ACB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450-CA90-46B4-BC53-7B51EED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4BD-C40D-483F-90E4-1F662D0C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FD7-AF4B-429A-8293-A2D68725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Bun</a:t>
            </a:r>
            <a:r>
              <a:rPr b="1" lang="ro-RO" sz="6600" spc="-1" strike="noStrike">
                <a:solidFill>
                  <a:srgbClr val="ffff00"/>
                </a:solidFill>
                <a:latin typeface="Arial"/>
              </a:rPr>
              <a:t>ă ziua, copii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537372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jutaţi-ne să o găsim pe Albă ca Zăpa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rezolvând corect exerciţiile şi problemele următoa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Datorită vouă suntem iarăşi împreună! Vă mulţumim, copi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395280" y="5516640"/>
            <a:ext cx="1944720" cy="936720"/>
          </a:xfrm>
          <a:custGeom>
            <a:avLst/>
            <a:gdLst>
              <a:gd name="textAreaLeft" fmla="*/ 60480 w 1944720"/>
              <a:gd name="textAreaRight" fmla="*/ 1884240 w 194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4835" h="21600">
                <a:moveTo>
                  <a:pt x="0" y="0"/>
                </a:moveTo>
                <a:lnTo>
                  <a:pt x="44835" y="0"/>
                </a:lnTo>
                <a:lnTo>
                  <a:pt x="44835" y="21600"/>
                </a:lnTo>
                <a:lnTo>
                  <a:pt x="0" y="21600"/>
                </a:lnTo>
                <a:close/>
              </a:path>
              <a:path fill="lightenLess" w="44835" h="21600">
                <a:moveTo>
                  <a:pt x="0" y="0"/>
                </a:moveTo>
                <a:lnTo>
                  <a:pt x="44835" y="0"/>
                </a:lnTo>
                <a:lnTo>
                  <a:pt x="43435" y="1400"/>
                </a:lnTo>
                <a:lnTo>
                  <a:pt x="1400" y="1400"/>
                </a:lnTo>
                <a:close/>
              </a:path>
              <a:path fill="darken" w="44835" h="21600">
                <a:moveTo>
                  <a:pt x="44835" y="0"/>
                </a:moveTo>
                <a:lnTo>
                  <a:pt x="44835" y="21600"/>
                </a:lnTo>
                <a:lnTo>
                  <a:pt x="43435" y="20200"/>
                </a:lnTo>
                <a:lnTo>
                  <a:pt x="43435" y="1400"/>
                </a:lnTo>
                <a:close/>
              </a:path>
              <a:path fill="darkenLess" w="44835" h="21600">
                <a:moveTo>
                  <a:pt x="4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5" y="20200"/>
                </a:lnTo>
                <a:close/>
              </a:path>
              <a:path fill="lighten" w="4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35" h="21600">
                <a:moveTo>
                  <a:pt x="15411" y="7493"/>
                </a:moveTo>
                <a:lnTo>
                  <a:pt x="18918" y="7493"/>
                </a:lnTo>
                <a:lnTo>
                  <a:pt x="18918" y="12828"/>
                </a:lnTo>
                <a:cubicBezTo>
                  <a:pt x="18918" y="13751"/>
                  <a:pt x="19719" y="14482"/>
                  <a:pt x="20755" y="14482"/>
                </a:cubicBezTo>
                <a:lnTo>
                  <a:pt x="22417" y="14482"/>
                </a:lnTo>
                <a:cubicBezTo>
                  <a:pt x="23453" y="14482"/>
                  <a:pt x="24254" y="13751"/>
                  <a:pt x="24254" y="12828"/>
                </a:cubicBezTo>
                <a:lnTo>
                  <a:pt x="24254" y="7493"/>
                </a:lnTo>
                <a:lnTo>
                  <a:pt x="22417" y="7493"/>
                </a:lnTo>
                <a:lnTo>
                  <a:pt x="25925" y="3985"/>
                </a:lnTo>
                <a:lnTo>
                  <a:pt x="29598" y="7493"/>
                </a:lnTo>
                <a:lnTo>
                  <a:pt x="27761" y="7493"/>
                </a:lnTo>
                <a:lnTo>
                  <a:pt x="27761" y="12828"/>
                </a:lnTo>
                <a:cubicBezTo>
                  <a:pt x="27761" y="15596"/>
                  <a:pt x="25185" y="18155"/>
                  <a:pt x="22417" y="18155"/>
                </a:cubicBezTo>
                <a:lnTo>
                  <a:pt x="20755" y="18155"/>
                </a:lnTo>
                <a:cubicBezTo>
                  <a:pt x="17987" y="18155"/>
                  <a:pt x="15411" y="15596"/>
                  <a:pt x="15411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04640"/>
            <a:ext cx="3671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5329080" cy="532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2565360"/>
            <a:ext cx="2519280" cy="1655640"/>
          </a:xfrm>
          <a:prstGeom prst="wedgeEllipseCallout">
            <a:avLst>
              <a:gd name="adj1" fmla="val 65250"/>
              <a:gd name="adj2" fmla="val 6370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530600" cy="66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620640"/>
            <a:ext cx="3095640" cy="1656000"/>
          </a:xfrm>
          <a:prstGeom prst="wedgeEllipseCallout">
            <a:avLst>
              <a:gd name="adj1" fmla="val 81537"/>
              <a:gd name="adj2" fmla="val 1548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i încearc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395280" y="5516640"/>
            <a:ext cx="1944720" cy="936720"/>
          </a:xfrm>
          <a:custGeom>
            <a:avLst/>
            <a:gdLst>
              <a:gd name="textAreaLeft" fmla="*/ 60480 w 1944720"/>
              <a:gd name="textAreaRight" fmla="*/ 1884240 w 194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4835" h="21600">
                <a:moveTo>
                  <a:pt x="0" y="0"/>
                </a:moveTo>
                <a:lnTo>
                  <a:pt x="44835" y="0"/>
                </a:lnTo>
                <a:lnTo>
                  <a:pt x="44835" y="21600"/>
                </a:lnTo>
                <a:lnTo>
                  <a:pt x="0" y="21600"/>
                </a:lnTo>
                <a:close/>
              </a:path>
              <a:path fill="lightenLess" w="44835" h="21600">
                <a:moveTo>
                  <a:pt x="0" y="0"/>
                </a:moveTo>
                <a:lnTo>
                  <a:pt x="44835" y="0"/>
                </a:lnTo>
                <a:lnTo>
                  <a:pt x="43435" y="1400"/>
                </a:lnTo>
                <a:lnTo>
                  <a:pt x="1400" y="1400"/>
                </a:lnTo>
                <a:close/>
              </a:path>
              <a:path fill="darken" w="44835" h="21600">
                <a:moveTo>
                  <a:pt x="44835" y="0"/>
                </a:moveTo>
                <a:lnTo>
                  <a:pt x="44835" y="21600"/>
                </a:lnTo>
                <a:lnTo>
                  <a:pt x="43435" y="20200"/>
                </a:lnTo>
                <a:lnTo>
                  <a:pt x="43435" y="1400"/>
                </a:lnTo>
                <a:close/>
              </a:path>
              <a:path fill="darkenLess" w="44835" h="21600">
                <a:moveTo>
                  <a:pt x="4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5" y="20200"/>
                </a:lnTo>
                <a:close/>
              </a:path>
              <a:path fill="lighten" w="4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35" h="21600">
                <a:moveTo>
                  <a:pt x="15411" y="7493"/>
                </a:moveTo>
                <a:lnTo>
                  <a:pt x="18918" y="7493"/>
                </a:lnTo>
                <a:lnTo>
                  <a:pt x="18918" y="12828"/>
                </a:lnTo>
                <a:cubicBezTo>
                  <a:pt x="18918" y="13751"/>
                  <a:pt x="19719" y="14482"/>
                  <a:pt x="20755" y="14482"/>
                </a:cubicBezTo>
                <a:lnTo>
                  <a:pt x="22417" y="14482"/>
                </a:lnTo>
                <a:cubicBezTo>
                  <a:pt x="23453" y="14482"/>
                  <a:pt x="24254" y="13751"/>
                  <a:pt x="24254" y="12828"/>
                </a:cubicBezTo>
                <a:lnTo>
                  <a:pt x="24254" y="7493"/>
                </a:lnTo>
                <a:lnTo>
                  <a:pt x="22417" y="7493"/>
                </a:lnTo>
                <a:lnTo>
                  <a:pt x="25925" y="3985"/>
                </a:lnTo>
                <a:lnTo>
                  <a:pt x="29598" y="7493"/>
                </a:lnTo>
                <a:lnTo>
                  <a:pt x="27761" y="7493"/>
                </a:lnTo>
                <a:lnTo>
                  <a:pt x="27761" y="12828"/>
                </a:lnTo>
                <a:cubicBezTo>
                  <a:pt x="27761" y="15596"/>
                  <a:pt x="25185" y="18155"/>
                  <a:pt x="22417" y="18155"/>
                </a:cubicBezTo>
                <a:lnTo>
                  <a:pt x="20755" y="18155"/>
                </a:lnTo>
                <a:cubicBezTo>
                  <a:pt x="17987" y="18155"/>
                  <a:pt x="15411" y="15596"/>
                  <a:pt x="15411" y="12828"/>
                </a:cubicBez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49640" y="620640"/>
            <a:ext cx="5094360" cy="623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47628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7 + 3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1128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lastslide"/>
          </p:cNvPr>
          <p:cNvSpPr/>
          <p:nvPr/>
        </p:nvSpPr>
        <p:spPr>
          <a:xfrm>
            <a:off x="255600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4762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43 + 2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771640" y="249228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lastslide"/>
          </p:cNvPr>
          <p:cNvSpPr/>
          <p:nvPr/>
        </p:nvSpPr>
        <p:spPr>
          <a:xfrm>
            <a:off x="826920" y="249228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00720" y="4762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79 - 2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5148360" y="242100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6877080" y="242100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22760" y="0"/>
            <a:ext cx="4521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4762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7 - 3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61128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255600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97200" y="0"/>
            <a:ext cx="54468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54936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Aflaţi suma numerelor 67 şi 2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36572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lastslide"/>
          </p:cNvPr>
          <p:cNvSpPr/>
          <p:nvPr/>
        </p:nvSpPr>
        <p:spPr>
          <a:xfrm>
            <a:off x="2556000" y="436572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11520" y="620640"/>
            <a:ext cx="4632480" cy="623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54936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Aflaţi diferenţa numerelor 65 şi 3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lastslide"/>
          </p:cNvPr>
          <p:cNvSpPr/>
          <p:nvPr/>
        </p:nvSpPr>
        <p:spPr>
          <a:xfrm>
            <a:off x="611280" y="443700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43700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54936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Albă ca Zăpada a făcut 75 de prăjiturele. Eu am mâncat 23 de prăjiturele. Câte prăjiturele au rămas pentru ceilalţi piti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3419640" y="4221000"/>
            <a:ext cx="1439640" cy="100836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0835" h="21600">
                <a:moveTo>
                  <a:pt x="0" y="0"/>
                </a:moveTo>
                <a:lnTo>
                  <a:pt x="30835" y="0"/>
                </a:lnTo>
                <a:lnTo>
                  <a:pt x="30835" y="21600"/>
                </a:lnTo>
                <a:lnTo>
                  <a:pt x="0" y="21600"/>
                </a:lnTo>
                <a:close/>
              </a:path>
              <a:path fill="lightenLess" w="30835" h="21600">
                <a:moveTo>
                  <a:pt x="0" y="0"/>
                </a:moveTo>
                <a:lnTo>
                  <a:pt x="30835" y="0"/>
                </a:lnTo>
                <a:lnTo>
                  <a:pt x="29435" y="1400"/>
                </a:lnTo>
                <a:lnTo>
                  <a:pt x="1400" y="1400"/>
                </a:lnTo>
                <a:close/>
              </a:path>
              <a:path fill="darken" w="30835" h="21600">
                <a:moveTo>
                  <a:pt x="30835" y="0"/>
                </a:moveTo>
                <a:lnTo>
                  <a:pt x="30835" y="21600"/>
                </a:lnTo>
                <a:lnTo>
                  <a:pt x="29435" y="20200"/>
                </a:lnTo>
                <a:lnTo>
                  <a:pt x="29435" y="1400"/>
                </a:lnTo>
                <a:close/>
              </a:path>
              <a:path fill="darkenLess" w="30835" h="21600">
                <a:moveTo>
                  <a:pt x="3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5" y="20200"/>
                </a:lnTo>
                <a:close/>
              </a:path>
              <a:path fill="lighten" w="3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221000"/>
            <a:ext cx="1440000" cy="100836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0843" h="21600">
                <a:moveTo>
                  <a:pt x="0" y="0"/>
                </a:moveTo>
                <a:lnTo>
                  <a:pt x="30843" y="0"/>
                </a:lnTo>
                <a:lnTo>
                  <a:pt x="30843" y="21600"/>
                </a:lnTo>
                <a:lnTo>
                  <a:pt x="0" y="21600"/>
                </a:lnTo>
                <a:close/>
              </a:path>
              <a:path fill="lightenLess" w="30843" h="21600">
                <a:moveTo>
                  <a:pt x="0" y="0"/>
                </a:moveTo>
                <a:lnTo>
                  <a:pt x="30843" y="0"/>
                </a:lnTo>
                <a:lnTo>
                  <a:pt x="29443" y="1400"/>
                </a:lnTo>
                <a:lnTo>
                  <a:pt x="1400" y="1400"/>
                </a:lnTo>
                <a:close/>
              </a:path>
              <a:path fill="darken" w="30843" h="21600">
                <a:moveTo>
                  <a:pt x="30843" y="0"/>
                </a:moveTo>
                <a:lnTo>
                  <a:pt x="30843" y="21600"/>
                </a:lnTo>
                <a:lnTo>
                  <a:pt x="29443" y="20200"/>
                </a:lnTo>
                <a:lnTo>
                  <a:pt x="29443" y="1400"/>
                </a:lnTo>
                <a:close/>
              </a:path>
              <a:path fill="darkenLess" w="30843" h="21600">
                <a:moveTo>
                  <a:pt x="30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3" y="20200"/>
                </a:lnTo>
                <a:close/>
              </a:path>
              <a:path fill="lighten" w="30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2670120"/>
            <a:ext cx="7596000" cy="418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68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Ieri am scos din mină 42 de diamante, iar azi 5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Câte diamante avem în to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333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7093080" y="1628640"/>
            <a:ext cx="1439640" cy="100836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0835" h="21600">
                <a:moveTo>
                  <a:pt x="0" y="0"/>
                </a:moveTo>
                <a:lnTo>
                  <a:pt x="30835" y="0"/>
                </a:lnTo>
                <a:lnTo>
                  <a:pt x="30835" y="21600"/>
                </a:lnTo>
                <a:lnTo>
                  <a:pt x="0" y="21600"/>
                </a:lnTo>
                <a:close/>
              </a:path>
              <a:path fill="lightenLess" w="30835" h="21600">
                <a:moveTo>
                  <a:pt x="0" y="0"/>
                </a:moveTo>
                <a:lnTo>
                  <a:pt x="30835" y="0"/>
                </a:lnTo>
                <a:lnTo>
                  <a:pt x="29435" y="1400"/>
                </a:lnTo>
                <a:lnTo>
                  <a:pt x="1400" y="1400"/>
                </a:lnTo>
                <a:close/>
              </a:path>
              <a:path fill="darken" w="30835" h="21600">
                <a:moveTo>
                  <a:pt x="30835" y="0"/>
                </a:moveTo>
                <a:lnTo>
                  <a:pt x="30835" y="21600"/>
                </a:lnTo>
                <a:lnTo>
                  <a:pt x="29435" y="20200"/>
                </a:lnTo>
                <a:lnTo>
                  <a:pt x="29435" y="1400"/>
                </a:lnTo>
                <a:close/>
              </a:path>
              <a:path fill="darkenLess" w="30835" h="21600">
                <a:moveTo>
                  <a:pt x="3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5" y="20200"/>
                </a:lnTo>
                <a:close/>
              </a:path>
              <a:path fill="lighten" w="3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1:35:49Z</dcterms:created>
  <dc:creator>Liliana</dc:creator>
  <dc:description/>
  <dc:language>en-US</dc:language>
  <cp:lastModifiedBy>IULIA</cp:lastModifiedBy>
  <dcterms:modified xsi:type="dcterms:W3CDTF">2009-11-26T16:04:08Z</dcterms:modified>
  <cp:revision>3</cp:revision>
  <dc:subject/>
  <dc:title>Bună ziua, copii!</dc:title>
</cp:coreProperties>
</file>